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6D06-6485-49CB-B9F2-51AFD73A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F3E6-2D0B-4DCF-9E30-0FA26337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8AEF-DDDD-4152-97D8-03AECD8E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C775-2188-41EC-AA94-D48A90A0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6E6D-E67D-41CC-AA3D-E939F527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822F-CF03-4409-A9AE-029E79C2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57EE-F7E3-494B-9221-3ACE18E7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2FF1-6B62-4215-8DE6-9C06100D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1897-D3D1-43A6-90D7-3B2AAAFE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BBD6-3D70-404C-ADBE-24582FC0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8857-52E5-4D1E-AC6E-23E1B173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602D-061A-4FEA-9B6A-9A21488F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3F5E-3106-43D3-947B-8391BA42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D139-124B-44CC-B745-A3358B9D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8C24-68E0-4096-B6BB-98CA3754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509D-3147-43A3-9F37-25C05603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623C-539F-47AF-881A-E5221831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7CC6-66BF-4B7B-A96F-10049E22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D17E-4FE3-47CE-92B1-F933042A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E7EE-1477-4E69-B7C9-C499A146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ADA0-091D-4D0C-8593-AA2DE0FF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3B63-8991-4ED7-B6A4-143544B3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87D8-8472-4935-8E49-C2C85A1A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936F-CD6B-4CAC-936F-2FD698C6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BD76-D362-413E-8498-2459B2E2B55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D0B2-5E57-4B0E-83CA-8A7DBDCD5A59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«Растим патриотов России»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рограмм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деятельности школ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о патриотическому воспитанию учащихс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зам. дир. по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Р Чернышова Н.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БОУ «СШ с. Тростное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тановлянского 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Тел. 8-47476-2-75-60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tan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rostnoe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@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il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  </a:t>
            </a:r>
            <a:r>
              <a:rPr b="1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Блоки: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cc"/>
                </a:solidFill>
                <a:uFillTx/>
                <a:latin typeface="Tahoma"/>
              </a:rPr>
              <a:t>Блок целеполаг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вокупность идей, положений, целей, задач, составляющих идеологию патриотического и гражданского воспитания принятых в О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деология действует не только на детей, но и на взрослых. Она также является компонентом системы. Система не создаётся извне. Она выстрадана данной конкретной школой. Только та идеология, которая родилась как потребность конкретной школы, может считаться составляющей воспитательной системы. Целью гражданского и патриотического воспитания является человек. Некоторые школы создают идеальный образ ученика. Таким образом, достижение этого образа является целью воспит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 надо жалеть времени на выработку цели. Если задачи и цели совпали, значит цель выбрана верно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Блок деятельности.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ёба является образовательной деятельностью, но не всегда системообразующей. Вокруг учёбы трудно сплотить коллектив. Это отмечал ещё Макаренко. Деятельность коллектива по данной программе является интерпретирующей в гораздо большей степени, чем учебная. Главная функция программы – интегрирующая, крупными дозами. Такое воспитание, при котором мероприятие гражданской направленности превращается в событие. Настоящие воспитание – событийно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Блок отноше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ньше главным механизмом воспитания были требования. И только теперь мы подходим к тому моменту, когда ведущей педагогикой становится педагогика отношений. Это позволяет школу превратить в общнос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1294920"/>
            <a:ext cx="67741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Блок управления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240" y="2057400"/>
            <a:ext cx="75042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атриотическое и гражданское воспитание не только системно, но и управляемо. В данной системе управление – гибкое, построенное как бы на дуэт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егодня часто заявляют: самоуправление пропало. Нет. Если есть коллектив – есть самоуправленческие процессы. Надо создавать формы общественного управлен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50720" y="-9320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егодня существует множество новых технологий гражданского и патриотического воспитания, но источником новых технологий является коллективное творчество. Но это не отменяет того методического богатства, которое существует у нас в педагогике. Слово. Совместный поиск истины. Слово назидания. Деятельнос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оссийское гражданское и патриотическое воспитание всегда основывалось на воспитании деятельностью. Из всех многочисленных методик хотелось бы выделить воспитание ситуацией – самое мощное воспитательное средство. Ситуация воспитывает больш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066680" y="304920"/>
            <a:ext cx="784872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Блок психолого-педагогического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обеспеч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333399"/>
                </a:solidFill>
                <a:latin typeface="Tahoma"/>
              </a:rPr>
              <a:t>Методическая работа:</a:t>
            </a:r>
            <a:endParaRPr b="0" lang="en-US" sz="4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ведение открытых урок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пуск методической литерату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ведение семинар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ведение акци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Милосердие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Забота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Подарок ветерану своими руками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Чистый обелиск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Письмо солдату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Вахта Памяти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Координатор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2640" y="2514600"/>
            <a:ext cx="7086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подаватель-организатор ОБЖ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ам. директора по В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«Доброволец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33399"/>
                </a:solidFill>
                <a:latin typeface="Tahoma"/>
              </a:rPr>
              <a:t>Школа использует следующие ресурсы, необходимые для реализации программы патриотического воспитания учащихся.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23619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отовность персонала, родителей и учеников к участию в программ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фессиональная компетентность учител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нформационные ресурс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язь с РВ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заимодействие с администрацией сельского поселения, районной администраци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792920" cy="32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«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атриотическое воспитание – это систематическая и целенаправленная деятельность органов государственной власти и организаций по формированию у граждан высокого патриотического сознания, чувства верности своему Отечеству, готовности к выполнению гражданского долга и конституционных обязанностей по защите интересов Родины»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2971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атриот – это тот, кто любит своё Отечество не за то, что оно даёт ему какие-то блага и привилегии перед другими народами, а потому, что это его Родина. Человек или является патриотом своего Отечества, и тогда он соединен с ним, как дерево корнями с землёй, или он лишь пыль, носимая всеми ветрам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разработана в соответствии с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вом школы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ей о правах ребёнк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-30492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1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предполагает изучение истории Отечества, родного края, села, знакомство с его современным состоянием. Программа теснейшим образом переплетается с Отечественной историей. Изучение способствует не только воспитанию гражданских и патриотических чувств учащихся, но и углублению и закреплению правил по истории. Является полезным в чисто практических целях, а именно: поможет учащимся в выборе професс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ой чертой программы является то, что для её реализации не требуется специальных учебников. Организатор,  учитель, классный руководитель может использовать доступную литературу по истории своей  Родины, края, села, а также свой жизненный опыт. Программа ориентирована на концентрическую форму изучения родиноведческого материала, что способствует современным принципам патриотического воспитания подрастающего покол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рассчитана на учащихся 5-11 классо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1676520" y="533520"/>
            <a:ext cx="5867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яснительная запис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ru-RU" sz="4800" spc="-1" strike="noStrike">
                <a:solidFill>
                  <a:srgbClr val="333399"/>
                </a:solidFill>
                <a:latin typeface="Tahoma"/>
              </a:rPr>
              <a:t>Цель: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14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государственной программой воспитания граждан Российской федерации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742840"/>
            <a:ext cx="777240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а цель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оздание условий для развития личности, обладающей важнейшими качествами гражданина – патриота своего Отечества и способной успешно выполнять гражданские обязанности в мирное время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ahoma"/>
              </a:rPr>
              <a:t>Задачи: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Формирование патриотических чувств и сознания граждан на основе исторических ценностей и роли России в судьбах мира, сохранение и развитие чувства гордости за свою страну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Воспитание личности гражданина – патриота Родины, способность встать на защиту государственных интересов страны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ahoma"/>
              </a:rPr>
              <a:t>Формирование комплекса нормативного, правового и организационно-методического обеспечения функционирования воспитательной системы по патриотическому воспитанию школьников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Ожидаемый результат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Формирование у школьников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осознанного отношения к своему будущем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духовно-нравственной основы их жизнедеятельност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готовности к служению отечеств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Направле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361960"/>
            <a:ext cx="777240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Ценности и нормы жизн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Личность и творчеств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Образование и культур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Взаимопонимание и обще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Благотворительность и милосерд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Принцип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666520"/>
            <a:ext cx="7772400" cy="34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Гуманистическая направленнос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иродосообразнос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Культуросообразнос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инцип региона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инцип социального взаимодейств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инцип индивидуально-личностного подх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инцип ценностно-смыслового подх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20-10-01T13:42:25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